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gif" ContentType="image/gif"/>
  <Override PartName="/ppt/media/image20.jpeg" ContentType="image/jpeg"/>
  <Override PartName="/ppt/media/image25.jpeg" ContentType="image/jpeg"/>
  <Override PartName="/ppt/media/image21.jpeg" ContentType="image/jpeg"/>
  <Override PartName="/ppt/media/image6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10.jpeg" ContentType="image/jpe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Beethoven%20-%20SONATA%20AO%20LUAR.wav" ContentType="audio/x-wav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0BFD-58F9-42CF-BCD6-4AEF9F3E1849}" type="slidenum">
              <a:rPr b="0" lang="ro-R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 Ariston Normal Italic Regular 60 pt sólida. Depois Time New roman Italic e Verdana na identif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F9D-11C9-42DE-97DA-321765AD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C09-202D-4EFF-A122-024CDA43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363C-6268-4642-BE40-2D4BC085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DF51-D4EB-48E4-9483-7C52CACA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97A72-D685-4C2C-BD87-B6036F99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0B8E-D3EC-482F-9CB6-28C91E1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D8B32-1B64-4E25-B319-DC41C069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C8117-39A7-4917-8E3E-3E789D2B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C7D06-73FD-4BD2-A1E6-5C54D58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98B17-5C99-4E8A-B0E6-8F02CDD2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A06ED-9D42-4B6E-AD47-1CAB7B6D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36B4-A835-487D-B6DD-33AD9294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FEAAD-1D51-4BB1-8A7B-FDF276AF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B749A-E322-4983-810C-A8CD40E6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94FF-874E-4046-9899-A8231AB4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F163A-1015-466E-B84D-3805533A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5441D-00FC-422F-A45A-E0B83D2C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A89-8413-4F88-A4BE-FFDFC3D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EEA-119D-4C61-84AD-B63C4C39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D98-7B43-4A82-AAA5-75E7B208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4C5-A527-4C46-8A4A-C65DAF1B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FAC1-442F-401E-B69F-0C1C497A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03D2-ED40-4157-A5DA-B9F6160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E69-9E0C-4BB3-BC59-89B4F52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E981-5104-4B2C-BC16-0AB3BD5F57B5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1AEF-2414-4CB8-8D48-4E52DDB80743}" type="slidenum">
              <a:rPr b="0" lang="ro-RO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eethoven%20-%20SONATA%20AO%20LUAR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9120" y="656100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99"/>
                </a:solidFill>
                <a:latin typeface="Arial"/>
              </a:rPr>
              <a:t>Rio Piracicab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09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0" y="907920"/>
            <a:ext cx="410364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6320">
                  <a:solidFill>
                    <a:srgbClr val="0066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OMUL</a:t>
            </a:r>
            <a:endParaRPr b="0" lang="en-US" sz="1800" spc="1" strike="noStrike">
              <a:ln w="76320">
                <a:solidFill>
                  <a:srgbClr val="0066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812000" y="2492280"/>
            <a:ext cx="9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și</a:t>
            </a:r>
            <a:endParaRPr b="0" lang="en-US" sz="1800" spc="1" strike="noStrike">
              <a:ln w="57240">
                <a:solidFill>
                  <a:srgbClr val="00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640" y="4869000"/>
            <a:ext cx="6697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66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MEDIUL</a:t>
            </a:r>
            <a:endParaRPr b="0" lang="en-US" sz="1800" spc="1" strike="noStrike">
              <a:ln w="57240">
                <a:solidFill>
                  <a:srgbClr val="0066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  <p:transition spd="slow" advTm="13000">
    <p:diamond/>
    <p:sndAc>
      <p:stSnd>
        <p:snd r:embed="rId2" name="Beethoven%20-%20SONATA%20AO%20LUA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49120" y="4033800"/>
            <a:ext cx="710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În următoarea etapă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  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cea de vânător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  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omul și-a îmbunătățit hra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    </a:t>
            </a:r>
            <a:r>
              <a:rPr b="1" lang="ro-RO" sz="3600" spc="-1" strike="noStrike">
                <a:solidFill>
                  <a:srgbClr val="00ffff"/>
                </a:solidFill>
                <a:latin typeface="Arial Black"/>
              </a:rPr>
              <a:t>cu carnea animalelor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400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și-a acoperit trupu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o-RO" sz="4800" spc="-1" strike="noStrike">
                <a:solidFill>
                  <a:srgbClr val="00ffff"/>
                </a:solidFill>
                <a:latin typeface="Arial"/>
              </a:rPr>
              <a:t>cu pielea și blana lor 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3760"/>
            <a:ext cx="7705800" cy="6834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42520" y="3789360"/>
            <a:ext cx="7854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Primele manifestăr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ale simțului artistic al omulu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au fost descoper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pe pereții peșterilo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18120" y="404640"/>
            <a:ext cx="7514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- A învățat să să se foloseasc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de mediul înconjurăto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descoperind tainele naturii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a început să-și creez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propriul medi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94160" y="3284640"/>
            <a:ext cx="747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 Black"/>
              </a:rPr>
              <a:t>Mediul natural de viaț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 Black"/>
              </a:rPr>
              <a:t>a fost înlocuit, trept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 Black"/>
              </a:rPr>
              <a:t>cu cel creat</a:t>
            </a: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 – pentru a satisf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dorința de con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                       </a:t>
            </a:r>
            <a:r>
              <a:rPr b="1" lang="ro-RO" sz="3600" spc="-1" strike="noStrike">
                <a:solidFill>
                  <a:srgbClr val="ffffff"/>
                </a:solidFill>
                <a:latin typeface="Arial Black"/>
              </a:rPr>
              <a:t>a omulu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72360" y="1052640"/>
            <a:ext cx="434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Natura a pierdu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din ce în 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mai mult ter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24000" y="476280"/>
            <a:ext cx="43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Marile aglomerări urba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4068720" y="-233208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5013360"/>
            <a:ext cx="77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Cu clădiri din beton și sticlă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cu asfalt, ciment și piatră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9640" y="508464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cu aerul poluat de numărul 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mașini, din ce în ce mai ma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9640" y="2349360"/>
            <a:ext cx="315288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282920" y="0"/>
            <a:ext cx="486108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3598920" cy="3417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0" y="2336760"/>
            <a:ext cx="4897440" cy="4521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 rot="5400000">
            <a:off x="1583640" y="3033720"/>
            <a:ext cx="60483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înconjurător</a:t>
            </a:r>
            <a:endParaRPr b="0" lang="en-US" sz="1800" spc="1" strike="noStrike">
              <a:ln w="57240">
                <a:solidFill>
                  <a:srgbClr val="0066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5508720" cy="6859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708360" y="-17640"/>
            <a:ext cx="5435640" cy="6875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184480" y="5373720"/>
            <a:ext cx="45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 Black"/>
              </a:rPr>
              <a:t>cu fabrici și uzine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60" y="333360"/>
            <a:ext cx="686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u restrâns mediul de viaț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l animalelor și plante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5157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u dus la dispariția a numero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pecii de plante și anima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148360" y="0"/>
            <a:ext cx="3995640" cy="3975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516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6443640" y="3429000"/>
            <a:ext cx="1716120" cy="3429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4284720" y="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492360" y="2060640"/>
            <a:ext cx="4392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poluar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incendiile provoca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tăierea   necontrolată a păduri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4680" y="1052640"/>
            <a:ext cx="62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Arial"/>
              </a:rPr>
              <a:t>experimentele  atomic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3440" y="1773360"/>
            <a:ext cx="27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u produ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chimbăr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ireversibi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în natur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135600" y="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Leagănul vieții, Pământul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Arial"/>
              </a:rPr>
              <a:t>asistă neputincios la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4680" y="1413000"/>
            <a:ext cx="504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schimbările de clim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subțierea stratului de ozo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încălzirea global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ploile aci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fenomenul de deșertifi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a unor zone din ce în 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mai mar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despădurir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- eroziunea solulu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poluarea apei, aerul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și a solulu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-304920" y="-223920"/>
            <a:ext cx="9753840" cy="7305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492360" y="189000"/>
            <a:ext cx="53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HAIDEȚI SĂ ARUCĂ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INDIFERENȚ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LA COȘUL DE GUNOI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428840" y="1434960"/>
            <a:ext cx="558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Să ne unim forțe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pentru a salva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PĂMÂNTUL, frumoa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33cc"/>
                </a:solidFill>
                <a:latin typeface="Arial"/>
              </a:rPr>
              <a:t>Planetă Albastr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216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5280" y="260280"/>
            <a:ext cx="546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Fiecare poate face ceva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" y="4076640"/>
            <a:ext cx="46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0000"/>
                </a:solidFill>
                <a:latin typeface="Arial"/>
              </a:rPr>
              <a:t>Totul este să vrea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043520" y="0"/>
            <a:ext cx="510048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25800" y="3573360"/>
            <a:ext cx="3667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VOI VREȚI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SĂ VĂ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ALĂTURAȚ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00"/>
                </a:solidFill>
                <a:latin typeface="Arial"/>
              </a:rPr>
              <a:t>NOUĂ 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385776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3979800" y="0"/>
            <a:ext cx="51642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588000" y="6491160"/>
            <a:ext cx="2160720" cy="366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59040" y="3468600"/>
            <a:ext cx="440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Viitorul depin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Arial"/>
              </a:rPr>
              <a:t>și de VOI 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87280" y="3716280"/>
            <a:ext cx="554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ediul 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66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înconjurător ?</a:t>
            </a:r>
            <a:endParaRPr b="0" lang="en-US" sz="1800" spc="1" strike="noStrike">
              <a:ln w="28440">
                <a:solidFill>
                  <a:srgbClr val="0066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537840" y="1125360"/>
            <a:ext cx="79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6600"/>
                </a:solidFill>
                <a:latin typeface="Arial"/>
              </a:rPr>
              <a:t>Vă mai amintiți, copii,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6600"/>
                </a:solidFill>
                <a:latin typeface="Arial"/>
              </a:rPr>
              <a:t>din ce este alcătui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622920" y="2781360"/>
            <a:ext cx="2521080" cy="252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94880" y="620640"/>
            <a:ext cx="526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ff00"/>
                </a:solidFill>
                <a:latin typeface="Arial"/>
              </a:rPr>
              <a:t>Felicitări !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72320" y="765000"/>
            <a:ext cx="30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elementel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naturale:</a:t>
            </a:r>
            <a:r>
              <a:rPr b="1" lang="ro-RO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0400" y="1822320"/>
            <a:ext cx="296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p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er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soarele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relief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sol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subsol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plante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animale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omul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5440" y="1890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Totalitate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08720" y="765000"/>
            <a:ext cx="345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33"/>
                </a:solidFill>
                <a:latin typeface="Arial"/>
              </a:rPr>
              <a:t>elementel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33"/>
                </a:solidFill>
                <a:latin typeface="Arial"/>
              </a:rPr>
              <a:t>cre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9933"/>
                </a:solidFill>
                <a:latin typeface="Arial"/>
              </a:rPr>
              <a:t>de om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835280" y="620640"/>
            <a:ext cx="1296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692280"/>
            <a:ext cx="100800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65480" y="3213000"/>
            <a:ext cx="5261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așezările omenești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agricultur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industri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minerit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rumuri,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căi fera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porturi, aerogări, pod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(rețele de trnsport)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50920" y="260280"/>
            <a:ext cx="460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mul, parte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 naturii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253080" y="2227320"/>
            <a:ext cx="429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3399"/>
                </a:solidFill>
                <a:latin typeface="Arial"/>
              </a:rPr>
              <a:t>are nevoie d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068640"/>
            <a:ext cx="369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ff6600"/>
                </a:solidFill>
                <a:latin typeface="Arial"/>
              </a:rPr>
              <a:t>hrană,</a:t>
            </a: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00ffcc"/>
                </a:solidFill>
                <a:latin typeface="Arial"/>
              </a:rPr>
              <a:t>aer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99ff"/>
                </a:solidFill>
                <a:latin typeface="Arial"/>
              </a:rPr>
              <a:t>apă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ffff00"/>
                </a:solidFill>
                <a:latin typeface="Arial"/>
              </a:rPr>
              <a:t>adăpos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189000"/>
            <a:ext cx="838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Încă de la apariția sa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OMUL  s-a folosi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de mediul înconjură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pentru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-și astâmpăra setea sau foame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-și construi adăpos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 produce bunur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a explora bogățiile de la suprafaț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și din subsolul pământulu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2961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360" y="476280"/>
            <a:ext cx="59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ff6600"/>
                </a:solidFill>
                <a:latin typeface="Arial"/>
              </a:rPr>
              <a:t>Mai întâi culegător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" y="1341360"/>
            <a:ext cx="84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S-a adăpostit în peșteri și gr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pentru</a:t>
            </a:r>
            <a:r>
              <a:rPr b="1" lang="ro-RO" sz="3600" spc="-1" strike="noStrike">
                <a:solidFill>
                  <a:srgbClr val="ffffff"/>
                </a:solidFill>
                <a:latin typeface="Arial"/>
              </a:rPr>
              <a:t> a se apăra de frig și animal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52320" y="3500280"/>
            <a:ext cx="652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Descoperind focul, l-a folos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pentru a-și  prepara hran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pentru ilumin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să se încălzeasc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să se apere de animal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1" lang="ro-RO" sz="3200" spc="-1" strike="noStrike">
                <a:solidFill>
                  <a:srgbClr val="ff6600"/>
                </a:solidFill>
                <a:latin typeface="Arial Black"/>
              </a:rPr>
              <a:t>să prelucreze metale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06:41:59Z</dcterms:created>
  <dc:creator>user</dc:creator>
  <dc:description/>
  <dc:language>en-US</dc:language>
  <cp:lastModifiedBy>IULIA</cp:lastModifiedBy>
  <dcterms:modified xsi:type="dcterms:W3CDTF">2009-11-11T17:10:23Z</dcterms:modified>
  <cp:revision>77</cp:revision>
  <dc:subject/>
  <dc:title>Slide 1</dc:title>
</cp:coreProperties>
</file>